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DE30-D017-4E93-B062-D6B8062C67F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0624-460D-4AEE-A9E3-B15707CCF98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BF2C-2769-480E-BDE2-1B360C1CBCB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D5C-DAC0-44F8-AD1A-225125AF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471-9514-4423-B827-8AA6FA73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72FC3-2883-43AF-8C37-815B0680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381AE-B201-4CE3-A118-834CB15E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5C6BC-75BD-44A3-ACED-BB11A7D5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EBB9E-6A9D-4BF6-9973-266AA061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C785B-C4CF-4E7D-B0A1-85C3A037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DA231-04CE-4DC4-9A1B-184668AC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F848B-8377-470B-A9C5-CD341483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2D91A-3ED5-4F93-9032-2200A3E8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9A30E-5318-4C34-BC75-10593FE2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9EC4D-3488-4CBE-875F-884A7234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B829-0CF9-482F-807D-1A62B47B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CC302-379A-40A7-A2E1-31179170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36F6F-E87F-4426-ADCA-0E6B509B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0ADE9-0486-478C-9F4C-1A8357C3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D757C-6650-43FD-A881-353C09B4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062E1-DC0A-427E-B896-0B03C295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69324-ACEB-4F5D-956D-89FF992C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777F2-0C72-4863-A76E-2E373BBD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FA06A-C5CC-4499-B792-4F2AADFE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93F36-70C7-45F0-A953-B715F004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E222B-7317-46E7-A454-5B69FDAE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8DEC-2F98-4144-91AD-C43A0463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80893-DA2B-455D-972B-83503660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5B50E-36F5-4290-AE46-A84E3D55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F5324-8EA8-4C14-A4B0-DCC42E95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63930-5F07-463A-9904-50F22D91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84248-7E9B-44E7-994A-BD6DDC31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35DEB-9222-4919-851E-178C13CB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9A306-2CF9-45D6-8C2B-F7D38CD8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DC90D-3DDE-4740-B781-44EA46C9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8FCB5-EDE4-414C-9792-D4B51ED9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37430-8F08-4BDA-B732-A4497BFA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598D-0E5D-4712-AEAC-0907C79D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6781E-5E1D-47E6-8C70-7210368F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166AB-2158-4940-9F00-BFA9B21E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8DA0B-4839-422F-BF71-2C05636B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78F84-0C60-47F9-8485-0EB3B763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C8DDF-D4FA-4A9C-89CA-B5D3B4DD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C0724-4F85-40BB-A554-FDA0DE7C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08D5A-5FD8-4E61-AF63-15D3FF65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A4B24-0563-41E5-9547-BC40D2D0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8C075-0557-44A2-BF4C-7A289612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D35C0-F808-4A2B-93D1-891D75A4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8F60-D98E-4CBE-9679-3F9245DA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2FB92-1025-4438-9287-2EC7508B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D8A89-FF63-4A59-B10C-81C90D2E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6304A-9EA1-4A75-AB97-2B83E37F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8C795-5937-496B-9EFE-D5541B0F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82AD5-9723-4B6A-8046-0DCDF6E4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BF310-25D0-41D2-881F-554AB58A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CA21C-6DF9-4943-BBF3-813BE11B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555AD-4707-40E3-AC3B-EF6E696F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C433C-2B62-4947-9B4D-A01D27AB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09CA4-9E92-4134-BDB2-923AFAAC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3026-0261-4804-B1B7-F287ED77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3B4E5-382C-407D-81BD-3EE7CA35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28290-7319-4392-A108-100B7D96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7F90B-F0CD-4980-AE39-E6659F0B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E7304-C61B-4D13-B1F5-50E14EF9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7E146-006C-48E5-83AA-BFEE0E7C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1ED87-93A7-4FE5-B8F1-9A08EDDC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D849F-3800-4784-85DF-C57BE346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947D3-7BB2-4908-88E8-9ACEB5FE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47BE2-C971-462E-9B0E-63E5314B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DE0A5-5422-423A-8EC6-FA5C8FFB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A3E4-189C-4AA2-9F99-388B1F9C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0C3BD-5A9B-477A-8C4D-37D95642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AC597-2418-4640-88E2-9E2DD0B0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E0FA7-1DF7-448C-98BF-720425D6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B9AC3-8729-45E8-B59E-9EA5202F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AB0BAE-A9FF-4069-86C5-6ED0F169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32268-DED7-4850-BC08-5E6127A9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52966-BD1E-431F-8BFC-7C58C5D4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11E641-DEE2-480F-A710-27E2C1C1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9D53B-CC0F-4EB3-91DB-4CA65FB4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3EF8-8EAB-4A6C-9B87-8C3C2BD8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903B-9849-41B6-9F91-50F5A444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35C3-80FA-4F83-80B8-F8AEC7D4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FDE-998D-4073-9B22-3EFE379F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84AF-88AD-4B36-971D-D47C3EBE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4A1A-77D5-4477-8490-94BCFE04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7E79-1840-461A-8C6D-DC4BC272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2849-65DB-4A73-8C65-EA9EFE6C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520A-E5FA-46BE-8175-4880739E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70D02-3FFD-4EE7-9C0D-CC78EAD3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FFA3-AC8C-404E-A10F-0417E637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46459-170C-488C-A548-08157DEA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E3DC6-440A-4357-AD72-2441DFFB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88D5D-65B7-4D91-A2F6-ED91C8C9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33D-EEC2-435E-8BFE-29646EFF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3EFD-6737-42F4-8AE6-98899C32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AFE0A-9B57-4D7B-B10F-B39E382D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D088C-82F4-4009-99E0-414300E0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37D6F-54D6-45AF-B13A-AA790B7C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0989-345F-4EF4-9872-02D70FE1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EC8DE-7B8A-4CC0-85E8-DF5F7EEA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7AC09-BBF3-4EA2-A889-CA083545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5703E-A5B2-4E6E-AE21-5CF42201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17380-01FB-40FE-BC3A-801422EA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447F8-B02E-40A9-B0C5-6E44A98C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2D4-918B-4401-86BD-5D5C2164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6B450-11B1-4531-8B95-B08482BE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017E9-992E-4FF0-A82B-5AD016EA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BC1CB-1AED-4523-B9EF-A55D4491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D15BB-78C9-4DA7-8189-41F6ACE5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FE41-F639-4742-B4A8-4B9715DE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54836-CC7A-4467-A79F-D5DC5ADD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51552-B69B-4846-BFCB-D79C1465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8BC62-BF65-4DF3-86CC-06C9EBEC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31215-97AA-4B39-B2F7-594A5250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DBB04-072F-47C8-B4D9-9F895164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561-5C92-46B0-A44F-E497A419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EF174-1CDB-47D7-A7BF-1C9BA065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177B3-822A-4874-9BC3-0C3E0787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6272D-5E87-49F2-8354-73163AF3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15D85-8D7F-4021-A343-878EFAA9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D2C71-1CF0-4757-A1B0-CB9A8341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2F7FF-4AEC-4052-8A30-0D99BAF2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D5ADB-2F12-4F85-816A-E0D56B45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6AAFA-C439-4F7D-88E6-CECB1CFD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C581F-5BF4-4AAC-8E5B-77CE8FD3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D91F9-9EBD-412D-B1DC-A807894A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7C3-A9B6-4D97-8D26-2E4ACD54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24DB2-5268-4E61-93CC-8B5E7A62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22576-E46F-4E18-80C0-4B97A635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033BD-ACCB-4327-9D75-2C497050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79847-350F-4C48-85E9-1DB5F777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DC0F9-F89B-45E5-9F98-25D84FD6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504EA-E325-4A8B-ACCB-57AC784E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35EAE-3C6C-4E1D-A41E-FC7A95B7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534CB-06CF-46B1-B466-A075CEDC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7A348-0C42-4195-B323-CE924841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A5164-4A0D-4701-93F6-06F381AC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4BA-B7FD-41F6-9761-4B9B8B8F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E4ADB-8893-439A-A1AD-E05D70AC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649B2-5656-45C0-A51C-D162304A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383B2-9FC7-4A1D-B779-A5F7609D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6D08B-E0DB-4671-8D8D-E20C4FED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4C1D7-C4FF-4FC9-8229-1DBB0D46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5EC73-ACE5-43F6-8227-97B5D368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8CF60-A3ED-4CEB-BCAD-6B77212A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4CE02-7B04-4D37-BA4A-DB8B1AE6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3BE01-4F92-4A2C-85D9-4FA889FA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3C48D-53E2-4A53-A176-2E2F690B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636E-D273-4332-9D3A-69F11244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9C1BA-BD4C-46ED-A268-2EB7A70A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3BD9A-6B47-4097-A6B5-78D979D7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488B2-B5C9-412E-B2A5-2252A835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A016E-FA7B-405B-BF68-A03C5706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24D02-85A7-4D7A-9411-AFECBC21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37D01-10CD-499A-B9D7-C85AD0E4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F5C3B-8219-4FE8-AAC2-7B4CD9AA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04BC7-3D5F-45E2-ADAD-751CCD89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598A3-1996-461F-811F-05099F60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91CF6-7F5C-435A-9788-2F6F7B8A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154-A62D-4814-A96E-D4830479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9F6CA-90F7-4FBA-8F88-18F7E3EF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349CD-D6F6-4128-A607-EC5418A1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BC285-7FD1-4C68-B06F-D56BE645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814BC-79DF-4A20-B757-22CAC2C1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95F54-467E-406A-95FE-0402B811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9F951-FCD6-4F16-8C22-290DBC4D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672F6-8C16-4278-B7C6-FA383440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3C3A6-FF67-4B89-9AA2-ECA004FB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82774-47D0-41CA-AE8A-F01A02BC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DA56F-F536-41C4-8FB9-3886A0C0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3C43-947F-4CB3-B001-FCDEB4D65D3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A6C6-E173-4187-AA79-A66185963C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11AA-0E43-4ADF-96A1-C4801F5810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BE26-6950-4994-A4E7-9EB72E95DE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7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8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191A-21C9-492F-A9CB-3A11F96553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FFDC-021C-437B-A0B8-E9E2CCDC9E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2362320" y="752400"/>
            <a:ext cx="3962160" cy="1246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"/>
          <p:cNvPicPr/>
          <p:nvPr/>
        </p:nvPicPr>
        <p:blipFill>
          <a:blip r:embed="rId3"/>
          <a:stretch/>
        </p:blipFill>
        <p:spPr>
          <a:xfrm>
            <a:off x="3809880" y="5710320"/>
            <a:ext cx="1524240" cy="61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03C9-D570-4AF9-825A-0AFDF264AF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8CA9-8373-4D87-802A-5594FB8953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4B1C-0D4D-47D2-9E95-DCB5B80461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2BDD-DB8B-4AE1-A224-8343A36924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B1E5-1517-47F7-B6D7-80978AFF90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62B6-20DD-44E6-8BF6-469A77CCDE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DCF2-84F2-445D-B682-A1EF80D946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ED4B-189A-4312-9664-9C27C5A311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17360" y="4800600"/>
            <a:ext cx="7592760" cy="1295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Arial Rounded MT Bold"/>
              </a:rPr>
              <a:t>Λευκωσία, Ιούλιος 20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838080" y="2438280"/>
            <a:ext cx="7593120" cy="13701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ctr" anchorCtr="1">
            <a:noAutofit/>
          </a:bodyPr>
          <a:p>
            <a:pPr indent="0" algn="ctr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Arial"/>
              </a:rPr>
              <a:t>«Από τον αμπελώνα στο τραπέζι μα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egnaposto data 3"/>
          <p:cNvSpPr/>
          <p:nvPr/>
        </p:nvSpPr>
        <p:spPr>
          <a:xfrm>
            <a:off x="45720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Λευκωσία, Ιούλιος 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egnaposto numero diapositiva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A42A-35C9-4FED-8F38-B9E8F025FE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ttangolo 9"/>
          <p:cNvSpPr/>
          <p:nvPr/>
        </p:nvSpPr>
        <p:spPr>
          <a:xfrm>
            <a:off x="466560" y="266688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ww.foodanddrinkeurope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Grafik 3" descr=""/>
          <p:cNvPicPr/>
          <p:nvPr/>
        </p:nvPicPr>
        <p:blipFill>
          <a:blip r:embed="rId1"/>
          <a:stretch/>
        </p:blipFill>
        <p:spPr>
          <a:xfrm>
            <a:off x="6858000" y="1903320"/>
            <a:ext cx="1601640" cy="104004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"/>
          <p:cNvSpPr/>
          <p:nvPr/>
        </p:nvSpPr>
        <p:spPr>
          <a:xfrm>
            <a:off x="2716200" y="1289880"/>
            <a:ext cx="4114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eLearning Resource has been develope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prus Food and Nutrition Museu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in the Europeana Food and Drink Project, demonstrating the value and potential of food and drink-related content sourced through Europe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Calibri"/>
              </a:rPr>
              <a:t>The project is funded by the European Commission under the ICT Policy Support Programme part of the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Calibri"/>
              </a:rPr>
              <a:t>Competitiveness and Innovation Framework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735360" y="4819680"/>
            <a:ext cx="213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uropeana Food and Drink  consortium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"/>
          <p:cNvSpPr/>
          <p:nvPr/>
        </p:nvSpPr>
        <p:spPr>
          <a:xfrm>
            <a:off x="1562040" y="5582520"/>
            <a:ext cx="617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work is licensed under a Creative Commons Attribution 4.0 International Licen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2" descr="Creative Commons License"/>
          <p:cNvPicPr/>
          <p:nvPr/>
        </p:nvPicPr>
        <p:blipFill>
          <a:blip r:embed="rId2"/>
          <a:stretch/>
        </p:blipFill>
        <p:spPr>
          <a:xfrm>
            <a:off x="7848720" y="55324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645" name="Grafik 2" descr=""/>
          <p:cNvPicPr/>
          <p:nvPr/>
        </p:nvPicPr>
        <p:blipFill>
          <a:blip r:embed="rId3"/>
          <a:stretch/>
        </p:blipFill>
        <p:spPr>
          <a:xfrm>
            <a:off x="880920" y="1011240"/>
            <a:ext cx="1157400" cy="1655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5" descr=""/>
          <p:cNvPicPr/>
          <p:nvPr/>
        </p:nvPicPr>
        <p:blipFill>
          <a:blip r:embed="rId4"/>
          <a:stretch/>
        </p:blipFill>
        <p:spPr>
          <a:xfrm>
            <a:off x="4240080" y="3411360"/>
            <a:ext cx="1067040" cy="12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60040" y="4723920"/>
            <a:ext cx="7413480" cy="68580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404040"/>
                </a:solidFill>
                <a:latin typeface="Arial"/>
              </a:rPr>
              <a:t>Ενότητα γ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egnaposto numero diapositiva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526F-F258-49CC-ADFD-F3C7139F03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"/>
          <p:cNvPicPr/>
          <p:nvPr/>
        </p:nvPicPr>
        <p:blipFill>
          <a:blip r:embed="rId1"/>
          <a:stretch/>
        </p:blipFill>
        <p:spPr>
          <a:xfrm>
            <a:off x="2971800" y="1238400"/>
            <a:ext cx="319248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2640" y="5105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s://www.youtube.com/watch?v=SbbSBnI-Hb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egnaposto numero diapositiva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FE6D-D851-4B31-92E9-5244CBD660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Παραγωγή Κρασιού στην Κύπρο.mp4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3132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1760" y="5181480"/>
            <a:ext cx="7413480" cy="5270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s://www.youtube.com/watch?v=7CIRq5QG0bU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E0E0-AF48-4A84-AFC6-E71A7A530B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Sideways - Are You Chewing Gum.mp4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1102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160" y="4648320"/>
            <a:ext cx="7848360" cy="450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haelides, D. (1992)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ypriot Mosaic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Nicosia: Department of Antiquitie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37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C3EC-EDEF-4B74-978A-E5DB481A13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1025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917C-05C2-4DBA-90A5-CAE0C1FDAA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2" descr=""/>
          <p:cNvPicPr/>
          <p:nvPr/>
        </p:nvPicPr>
        <p:blipFill>
          <a:blip r:embed="rId1"/>
          <a:srcRect l="82467" t="-422" r="-182" b="432"/>
          <a:stretch/>
        </p:blipFill>
        <p:spPr>
          <a:xfrm>
            <a:off x="5715000" y="914400"/>
            <a:ext cx="2057400" cy="48909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38862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762120" y="12189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Calibri"/>
              </a:rPr>
              <a:t>Συγγραφ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Νατάσα Χαραλάμπους - Μουσείο Κυπριακών Τροφίμων και Διατροφή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haralambous.natasa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yfoodmuseum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Calibri"/>
              </a:rPr>
              <a:t>Εποπτική/Συμβουλευτική Ομάδ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Στάλω Λαζάρου - Μουσείο Κυπριακών Τροφίμων και Διατροφή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Εύα Νεοφύτου - Υπουργείο Παιδείας και Πολιτισμο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Δέσπω Λοϊζου - Υπουργείο Παιδείας και Πολιτισμο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Κατερίνα Μάτσα - Εκπαιδευτικός/Θεατρολόγ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egnaposto data 4"/>
          <p:cNvSpPr/>
          <p:nvPr/>
        </p:nvSpPr>
        <p:spPr>
          <a:xfrm>
            <a:off x="45720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Λευκωσία, Ιούλιος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egnaposto numero diapositiva 6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7750-96C7-4EC3-A162-A7E11A6024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19:50:36Z</dcterms:created>
  <dc:creator>Arianna Giuliani (Museo del Cioccolato);Emmanuel Mazzucchi (DigiLab Sapienza)</dc:creator>
  <dc:description/>
  <cp:keywords>Food and Drink Europe Open Educational Resources</cp:keywords>
  <dc:language>en-US</dc:language>
  <cp:lastModifiedBy>Natasa Charalambous</cp:lastModifiedBy>
  <dcterms:modified xsi:type="dcterms:W3CDTF">2015-07-15T22:45:47Z</dcterms:modified>
  <cp:revision>49</cp:revision>
  <dc:subject>Food and Drink</dc:subject>
  <dc:title>Museo Del Cioccolato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438C5FEF74F9443A5EA2DD155643AD2</vt:lpwstr>
  </property>
  <property fmtid="{D5CDD505-2E9C-101B-9397-08002B2CF9AE}" pid="3" name="TaxCatchAll">
    <vt:lpwstr>270;#Food and drink;#1438;#Open Educational Resources;#1437;#Europe</vt:lpwstr>
  </property>
  <property fmtid="{D5CDD505-2E9C-101B-9397-08002B2CF9AE}" pid="4" name="TaxKeyword">
    <vt:lpwstr>270;#Food and drink|86b18f41-7aea-4cbd-a8f5-1f30581748ea;#1438;#Open Educational Resources|7c19c98a-eccc-4349-95a1-48f028d2aa69;#1437;#Europe|ed74af8d-fb26-4450-9f7d-b2780cc34457</vt:lpwstr>
  </property>
  <property fmtid="{D5CDD505-2E9C-101B-9397-08002B2CF9AE}" pid="5" name="TaxKeywordTaxHTField">
    <vt:lpwstr>Food and drink|86b18f41-7aea-4cbd-a8f5-1f30581748ea;Open Educational Resources|7c19c98a-eccc-4349-95a1-48f028d2aa69;Europe|ed74af8d-fb26-4450-9f7d-b2780cc34457</vt:lpwstr>
  </property>
</Properties>
</file>